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1E13-1F05-406E-97D0-AB1EDED589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 Иванкин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FDA9-DBCC-49DA-8D16-DC8AC739D9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A164-2528-4814-A9C7-61F7D5B433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проблемы имеют место быть в современном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ть, какие проблемы могли бы исчезнуть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модель цивилизации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B153-77E9-4BF7-8F3B-A7EF772347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97C6-F27C-4491-A292-8B2688A502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Виды важнейших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5B2D-F11C-4FC1-9179-48F4FBEE28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9702-BA05-49D4-8885-569A6A5B7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B034-1AC6-4CD1-AE3E-A8DEF20BE8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роблемы, которые решатся в будущ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мира на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и сырье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л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6904-F856-4AE7-9F74-B027A5F803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Новая модель циви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4766-82BC-4994-8DD4-B1B50AF4FA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2B1-3735-4B61-8DF9-25FE2312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049-B66E-4D3B-9E40-22C4A88C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92D3-5FAD-43D1-855C-27CEA761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ECA-A6DD-4A88-ABBA-2F440400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CBD8-383E-485E-A34F-780EE90B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9BAB-E717-4E4F-A316-F78C828E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247D-4E4B-43DF-928D-2BE12EF2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A33-1941-4438-B182-0982572D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175-4A18-4199-9A50-69DC9A92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765E-2FE8-4A10-AA39-9158EBE8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EC51-92A5-4C8A-8622-15B5004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404-A8C4-4781-B7AB-F3C5F0A0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21D2-5492-4FD8-B0DE-4462A56A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4BBE-28E0-4198-9436-81AF595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2C19-133B-4FD8-86B5-74380CE3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0CD0-DB7C-4A06-BBE9-193DF867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E9F7-0A4F-41D3-9D09-A0253AAB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A47D-8BD6-42B5-BDD9-C09A3B04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56AE9-5196-4B6A-8F98-68BFD3B1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7E49-E6B2-4E86-8B45-421E938B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DB22-7E8A-4BEF-AC81-BFDC8411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E7F6-7AF3-4ED4-9518-2036D89B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B7A-D027-45C7-A19C-DC13CB32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EFA8-3F9A-4995-82EF-2AC67EB5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69308-DBF3-47D9-876B-0B00784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B7984-8057-4F55-A40F-58EE8FFB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6358-2009-47C5-819B-015855BA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C37E-5631-4161-A1B2-6369C203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446C-BD16-4B8C-A889-C6B33B24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EDEE0-E67F-4E3A-B840-7E3B4623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2476-B191-4F90-95DE-515CC1DF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6129A-E7EC-4D8E-A2F9-5D8532FC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62108-E16D-4953-8534-6AC92E2B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877-A786-4CB3-9B27-AE6D5244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5A049-89AA-4B0F-BC82-AB5F49B2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CF99-D5E9-43AB-B54B-058942AF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1EE2-0DAD-4C3F-90ED-7D39C700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27BE-C742-47BA-A7C3-6A1D9428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4DBF-F94B-4EA7-BAB3-CC40FA9D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9B382-B9D9-4AEA-8B29-682E387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8C21-2E7A-45CE-9811-4303BD73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54543-2353-4FE4-A5C0-044F524F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FB65-C133-4D6E-8A47-B03DAB0E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C3899-EA7D-4C26-A957-782AFFA2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EDC-0C07-44F9-8550-C978987B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BEECC-A9C1-4A75-9A28-75F8165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4D52B-30E9-418E-B927-F22CA3F3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5B0E-FCB7-4B26-9E62-06E542DC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4FF8F-42A5-47CA-9511-B217CB11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38E49-01A2-447B-B66A-39812D7D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85058-B332-4B1E-83F9-F820A0F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D3D1B-5DA7-472F-836B-741D7A5B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6878-9991-4DEF-B37B-8D7836CF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EBE88-7179-40E0-BB53-A4B7D02F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E548F-4026-465B-AD75-6F04F095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AA0-B8D7-4590-A3E6-6A837BDF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25B2C-4072-49B9-A3D0-163F52DC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5B043-C005-4668-840A-CF322DDE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C1C9B-9E4C-45EC-A597-C27EF2A6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6B687-237B-49C4-83EA-23008815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FA439-78E1-4421-9A88-18E88FFD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0C66-7A86-4FDF-8160-8C6D183D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6C76A-EB19-4B1F-A40A-84CC41B9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9733-B2DD-43F7-8016-95644D2A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D554-7EF7-4F4E-8490-0EEED5E0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6FADD-BAD1-4EBB-A887-32A3B8C6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F84-C454-4E58-9DDE-301DA46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1C416-AF7C-49D6-8F09-035A1E57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8AE88-FE16-46B3-B143-E410919B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9CAFB-9116-4A95-AAF7-28B8CEDE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82702-226F-4CEE-91B8-BCDAAA2F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BAB7E-253B-4882-8FDB-BBCC7A67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CEA6F-9EB4-468B-84D4-7E960FA0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4F31F-A757-427B-899B-E3F9976B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86D3F-666C-404C-AE73-684EFEF2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19181-B882-42F3-A317-EA3EC3E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E471A-EBE4-414C-94AC-1ED3ED0F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F52-C34D-4E3A-B830-0D436B6E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8629B-8CBD-4C2C-A5CD-0D6E632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BF8B7-867A-47DF-9CDB-87980547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25F72-CCCD-4C18-8391-E96E0C06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342E4-A1DF-4E7E-85EA-B84AB321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60EDA-7DD9-4224-BC3C-ED7388FD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EF8-EE31-4772-959F-C87070C5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74F0-2153-4B00-9E23-38978CB74D4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936B-BB2D-4B59-B4A5-2E9316826E6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8E00-FA83-40F3-BC3C-99128E29E6A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D164-3250-4DB8-9CCF-5E107BFFDE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025A-6BE9-46DD-AEA2-E8574DD043C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B3FB-24C2-4501-9D8B-FE58B7AD1EA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A5A4-4E3C-4D12-BBF1-E76ECFC05B8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3E9A-B23A-43D6-8D8E-643FB85B8F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8612-F788-4D2E-A414-511606081BF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AA3E-8A99-447D-B0D7-16B5FEC9F1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D2D0-1DE6-4A70-9876-D9CDB61A1B3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D563-7E9E-4075-AC4F-DE824EB4451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1FF8-5500-4EEF-841D-90D83E8266B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4A78-84D3-4F55-B1AB-E085CFD4993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go.mail.ru/frame.html?imgurl=http://homeland.su/uploads/posts/2008-09/1220935326_may_57.jpg&amp;pageurl=http://homeland.su/index.php?newsid=106&amp;id=9703565&amp;iid=0&amp;imgwidth=381&amp;imgheight=450&amp;imgsize=146040&amp;images_links=b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hyperlink" Target="http://go.mail.ru/frame.html?imgurl=http://www.k61.dn.ua/images/News/ekology.jpg&amp;pageurl=http://www.zovu.ru/adm/CSkA05.htm&amp;id=118048&amp;iid=6&amp;imgwidth=448&amp;imgheight=287&amp;imgsize=23700&amp;images_links=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go.mail.ru/frame.html?imgurl=http://www.iotekb.ru/assets/images/himiki/zavod.jpg&amp;pageurl=http://www.iotekb.ru/napravlenija/promyshlennaja_ekologija.html&amp;id=11640788&amp;iid=4&amp;imgwidth=797&amp;imgheight=412&amp;imgsize=19004&amp;images_links=b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Выполнила Иванкина Дарь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лушав курс «Глобальные проблемы человечества», представить модель будущей цивилиз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ить, какие проблемы имеют место быть в современном мир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умать, какие проблемы могли бы исчезнуть в будущ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здать модель цивилизации будущег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лобальные пробл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то проблемы и ситуации, которые затрагивают условия жизни и деятельности людей, содержат угрозу для настоящего и будущего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иды важнейших глобальных пробл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357200" y="1447920"/>
            <a:ext cx="757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 action="ppaction://hlinksldjump"/>
              </a:rPr>
              <a:t> Эколог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ирового океа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2" descr="C:\Users\Даша\Desktop\Моя_папкА\доклады\геогр\i[1].jpg"/>
          <p:cNvPicPr/>
          <p:nvPr/>
        </p:nvPicPr>
        <p:blipFill>
          <a:blip r:embed="rId2"/>
          <a:stretch/>
        </p:blipFill>
        <p:spPr>
          <a:xfrm>
            <a:off x="142920" y="285840"/>
            <a:ext cx="3708360" cy="24717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Даша\Desktop\Моя_папкА\доклады\геогр\i[6].jpg"/>
          <p:cNvPicPr/>
          <p:nvPr/>
        </p:nvPicPr>
        <p:blipFill>
          <a:blip r:embed="rId3"/>
          <a:stretch/>
        </p:blipFill>
        <p:spPr>
          <a:xfrm>
            <a:off x="6357960" y="1143000"/>
            <a:ext cx="2565360" cy="3571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http://im0-tub.mail.ru/i?id=9703565&amp;tov=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28960" y="2928960"/>
            <a:ext cx="2638440" cy="31161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 u="sng">
                <a:solidFill>
                  <a:srgbClr val="8dc765"/>
                </a:solidFill>
                <a:uFillTx/>
                <a:latin typeface="Corbel"/>
                <a:hlinkClick r:id="rId1" action="ppaction://hlinksldjump"/>
              </a:rPr>
              <a:t>назад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http://im6-tub.mail.ru/i?id=118048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32440" y="785880"/>
            <a:ext cx="4111560" cy="2643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im4-tub.mail.ru/i?id=11640788&amp;tov=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357120"/>
            <a:ext cx="4587840" cy="23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http://im8-tub.mail.ru/i?id=29733032&amp;tov=8"/>
          <p:cNvPicPr/>
          <p:nvPr/>
        </p:nvPicPr>
        <p:blipFill>
          <a:blip r:embed="rId6"/>
          <a:stretch/>
        </p:blipFill>
        <p:spPr>
          <a:xfrm>
            <a:off x="1857240" y="3390840"/>
            <a:ext cx="5000760" cy="3467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облемы, которые решатся в будуще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хранение мира на земл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нергетические и сырье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довольствен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ежнациональных отношен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графическ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стал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доровь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овая модель цивилизаци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1" descr="C:\Users\Даша\Desktop\Моя_папкА\доклады\геогр\Безымянны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2286000" y="2143080"/>
            <a:ext cx="885960" cy="1762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3"/>
          <a:stretch/>
        </p:blipFill>
        <p:spPr>
          <a:xfrm>
            <a:off x="3214800" y="2143080"/>
            <a:ext cx="885600" cy="1762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4"/>
          <a:stretch/>
        </p:blipFill>
        <p:spPr>
          <a:xfrm>
            <a:off x="3857760" y="2143080"/>
            <a:ext cx="885600" cy="17622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8:28:24Z</dcterms:created>
  <dc:creator>Даша</dc:creator>
  <dc:description/>
  <dc:language>en-US</dc:language>
  <cp:lastModifiedBy>LEGION</cp:lastModifiedBy>
  <dcterms:modified xsi:type="dcterms:W3CDTF">2015-05-06T08:27:58Z</dcterms:modified>
  <cp:revision>12</cp:revision>
  <dc:subject/>
  <dc:title>Слайд 1</dc:title>
</cp:coreProperties>
</file>